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036-B15B-4666-84BD-2FEEE62F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D81-92E8-40F5-AF4F-CA90FC8A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3D1-A8DF-4BB2-9A1B-CB045304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4C7-830E-49FB-BEDF-42653AD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85EA-9DD7-4351-9CDF-842F6A8B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4F3F-4ACE-402D-AC46-9F59766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9805-4F04-4C65-B15E-33D05EED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6123-C48D-4467-8602-8BE9CEE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BF6-6A2D-4332-BF5E-CEDE680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4448-23EC-4AF1-B68E-46DC4CD2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A53-56C9-43BB-AA59-BBD81BF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DBF-D8E9-4BDD-B173-BE83E41B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819-E350-4ECE-BEE8-78601EB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05CA-D517-4D7C-80C6-9866AA1F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C5B-4BC0-45B4-BF83-6BA1F6D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DA3-49F8-4909-B635-8CB46F0A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6238-26B3-4604-A7F8-0D121147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AC1-E46E-41D6-8647-A2723A34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356-91F9-4008-BBC9-6419B08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83C-F94C-4475-9FD5-1CC197AF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B4B-B8DF-4686-B849-A84BEA84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820-1341-47D2-AADF-642FA373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FC3-158B-44CA-88CB-E39493E7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DF1-2D82-440E-8508-853908A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A8F1-52DD-4225-8707-BAB71FE91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0488-104A-417D-9471-E0A957F72E9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ecolbertreport.cc.com/videos/v3sijl/income-inequality-debate---jim-marti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30481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144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us Revolu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rt of individual rights (you matt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ivity, idea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est in literac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read Bible in vernacular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d warfare/div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tholic vs. Protesta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973760" y="3733920"/>
            <a:ext cx="417024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nderstanding the Response to Luth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523880"/>
          <a:ext cx="8458200" cy="4064040"/>
        </p:xfrm>
        <a:graphic>
          <a:graphicData uri="http://schemas.openxmlformats.org/drawingml/2006/table">
            <a:tbl>
              <a:tblPr/>
              <a:tblGrid>
                <a:gridCol w="4190760"/>
                <a:gridCol w="42674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s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si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Lu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pope should not be part of the Church any more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Pope Leo X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.Charles 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.Lu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.Charles 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.Prince Frederic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up 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40"/>
          <p:cNvSpPr/>
          <p:nvPr/>
        </p:nvSpPr>
        <p:spPr>
          <a:xfrm>
            <a:off x="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read the subsections titled “The Pope’s Threat” and “The Emperor’s Opposition” on page 490 of your textbook, and then summarize the viewpoint of your assigned historical figur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at you should have figured out…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219320"/>
          <a:ext cx="8686800" cy="5151240"/>
        </p:xfrm>
        <a:graphic>
          <a:graphicData uri="http://schemas.openxmlformats.org/drawingml/2006/table">
            <a:tbl>
              <a:tblPr/>
              <a:tblGrid>
                <a:gridCol w="1981080"/>
                <a:gridCol w="6705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s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.Luth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e pope should not be part of the Church any more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.Pope Leo X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f you don’t change your mind, I will take away your right to membership in the Church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.Charles 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uther, take back what you have said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.Luth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o. I have to do what I believe is right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.Charles V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ou are an outlaw.  Nobody in my land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 allowed to help you.  All the books you have written will be burned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.Prince Frederick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 will protect you, Luther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eachings of the Re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uthe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hierarch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wo Real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hurc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cul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 Sola’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ith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cripture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race alo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Mo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dulgen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ess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ayer to saints -confu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lvinism (Reform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dest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orn sinner or sav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ocrac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al law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ble is the authority on belief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Mo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dulgen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ess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ayers to saints . . 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glish Re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VIII – Catholic king “Defender of the Fai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ried Spanish Catholic: Katherine of Arag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ly one daughter (Mary), asks for an annul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pe refuses, Henry breaks aw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secretly marries Anne Boleyn (Calvinis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sses Act of Supremacy – Head of Anglican Chu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mas More: advisor who refuses to sw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imprisoned and execu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Picture 5" descr="02henry8"/>
          <p:cNvPicPr/>
          <p:nvPr/>
        </p:nvPicPr>
        <p:blipFill>
          <a:blip r:embed="rId1"/>
          <a:stretch/>
        </p:blipFill>
        <p:spPr>
          <a:xfrm>
            <a:off x="6110280" y="1447920"/>
            <a:ext cx="3033720" cy="541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nry VIII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ughter with Boleyn: Elizabe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leyn is exec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marries Jane Seymour: has son Edw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ymour dies, three more wives foll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5" descr="Henry%2520VIII's%2520Wives"/>
          <p:cNvPicPr/>
          <p:nvPr/>
        </p:nvPicPr>
        <p:blipFill>
          <a:blip r:embed="rId1"/>
          <a:stretch/>
        </p:blipFill>
        <p:spPr>
          <a:xfrm>
            <a:off x="0" y="59832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6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cxnSp>
          <p:nvCxnSpPr>
            <p:cNvPr id="128" name="_s1028"/>
            <p:cNvCxnSpPr>
              <a:stCxn id="129" idx="1"/>
              <a:endCxn id="130" idx="2"/>
            </p:cNvCxnSpPr>
            <p:nvPr/>
          </p:nvCxnSpPr>
          <p:spPr>
            <a:xfrm rot="10800000">
              <a:off x="6094800" y="2155680"/>
              <a:ext cx="435960" cy="979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1029"/>
            <p:cNvCxnSpPr>
              <a:stCxn id="132" idx="1"/>
              <a:endCxn id="130" idx="2"/>
            </p:cNvCxnSpPr>
            <p:nvPr/>
          </p:nvCxnSpPr>
          <p:spPr>
            <a:xfrm rot="10800000">
              <a:off x="6094800" y="2155680"/>
              <a:ext cx="435960" cy="390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3" name="_s1030"/>
            <p:cNvCxnSpPr>
              <a:stCxn id="134" idx="1"/>
              <a:endCxn id="135" idx="2"/>
            </p:cNvCxnSpPr>
            <p:nvPr/>
          </p:nvCxnSpPr>
          <p:spPr>
            <a:xfrm rot="10800000">
              <a:off x="6094800" y="3918600"/>
              <a:ext cx="435960" cy="2154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6" name="_s1031"/>
            <p:cNvCxnSpPr>
              <a:stCxn id="137" idx="1"/>
              <a:endCxn id="135" idx="2"/>
            </p:cNvCxnSpPr>
            <p:nvPr/>
          </p:nvCxnSpPr>
          <p:spPr>
            <a:xfrm rot="10800000">
              <a:off x="6094800" y="3918600"/>
              <a:ext cx="435960" cy="15678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8" name="_s1032"/>
            <p:cNvCxnSpPr>
              <a:stCxn id="139" idx="1"/>
              <a:endCxn id="135" idx="2"/>
            </p:cNvCxnSpPr>
            <p:nvPr/>
          </p:nvCxnSpPr>
          <p:spPr>
            <a:xfrm rot="10800000">
              <a:off x="6094800" y="3918600"/>
              <a:ext cx="435960" cy="979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_s1033"/>
            <p:cNvCxnSpPr>
              <a:stCxn id="141" idx="1"/>
              <a:endCxn id="135" idx="2"/>
            </p:cNvCxnSpPr>
            <p:nvPr/>
          </p:nvCxnSpPr>
          <p:spPr>
            <a:xfrm rot="10800000">
              <a:off x="6094800" y="3918600"/>
              <a:ext cx="43596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_s1034"/>
            <p:cNvCxnSpPr>
              <a:stCxn id="143" idx="1"/>
              <a:endCxn id="144" idx="2"/>
            </p:cNvCxnSpPr>
            <p:nvPr/>
          </p:nvCxnSpPr>
          <p:spPr>
            <a:xfrm rot="10800000">
              <a:off x="4353120" y="1567440"/>
              <a:ext cx="435960" cy="5094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1035"/>
            <p:cNvCxnSpPr>
              <a:stCxn id="135" idx="1"/>
              <a:endCxn id="144" idx="2"/>
            </p:cNvCxnSpPr>
            <p:nvPr/>
          </p:nvCxnSpPr>
          <p:spPr>
            <a:xfrm rot="10800000">
              <a:off x="4353120" y="1567440"/>
              <a:ext cx="435960" cy="2155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6" name="_s1036"/>
            <p:cNvCxnSpPr>
              <a:stCxn id="130" idx="1"/>
              <a:endCxn id="144" idx="2"/>
            </p:cNvCxnSpPr>
            <p:nvPr/>
          </p:nvCxnSpPr>
          <p:spPr>
            <a:xfrm rot="10800000">
              <a:off x="4353120" y="1567440"/>
              <a:ext cx="43596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7" name="_s1037"/>
            <p:cNvCxnSpPr>
              <a:stCxn id="144" idx="0"/>
              <a:endCxn id="148" idx="2"/>
            </p:cNvCxnSpPr>
            <p:nvPr/>
          </p:nvCxnSpPr>
          <p:spPr>
            <a:xfrm flipV="1">
              <a:off x="4353480" y="978120"/>
              <a:ext cx="3240" cy="198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9" name="_s1038"/>
            <p:cNvCxnSpPr>
              <a:stCxn id="148" idx="0"/>
              <a:endCxn id="150" idx="2"/>
            </p:cNvCxnSpPr>
            <p:nvPr/>
          </p:nvCxnSpPr>
          <p:spPr>
            <a:xfrm flipV="1" rot="16200000">
              <a:off x="3494160" y="-272160"/>
              <a:ext cx="195480" cy="152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1" name="_s1039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1970640" y="-272160"/>
              <a:ext cx="195480" cy="152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0" name="_s1040"/>
            <p:cNvSpPr/>
            <p:nvPr/>
          </p:nvSpPr>
          <p:spPr>
            <a:xfrm>
              <a:off x="1524240" y="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The Early Christian Church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1041"/>
            <p:cNvSpPr/>
            <p:nvPr/>
          </p:nvSpPr>
          <p:spPr>
            <a:xfrm>
              <a:off x="0" y="5878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Eastern Orthodoxy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1042"/>
            <p:cNvSpPr/>
            <p:nvPr/>
          </p:nvSpPr>
          <p:spPr>
            <a:xfrm>
              <a:off x="3047760" y="5878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Roman Catholic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1043"/>
            <p:cNvSpPr/>
            <p:nvPr/>
          </p:nvSpPr>
          <p:spPr>
            <a:xfrm>
              <a:off x="3047760" y="117612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rotestant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_s1044"/>
            <p:cNvSpPr/>
            <p:nvPr/>
          </p:nvSpPr>
          <p:spPr>
            <a:xfrm>
              <a:off x="4789440" y="176436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Calvinism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_s1045"/>
            <p:cNvSpPr/>
            <p:nvPr/>
          </p:nvSpPr>
          <p:spPr>
            <a:xfrm>
              <a:off x="4789440" y="352728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Anglican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_s1046"/>
            <p:cNvSpPr/>
            <p:nvPr/>
          </p:nvSpPr>
          <p:spPr>
            <a:xfrm>
              <a:off x="4789440" y="646560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Lutheranism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_s1047"/>
            <p:cNvSpPr/>
            <p:nvPr/>
          </p:nvSpPr>
          <p:spPr>
            <a:xfrm>
              <a:off x="6531120" y="4115520"/>
              <a:ext cx="261216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Episcopalian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_s1048"/>
            <p:cNvSpPr/>
            <p:nvPr/>
          </p:nvSpPr>
          <p:spPr>
            <a:xfrm>
              <a:off x="6531120" y="4703760"/>
              <a:ext cx="2609640" cy="3906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Baptist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_s1049"/>
            <p:cNvSpPr/>
            <p:nvPr/>
          </p:nvSpPr>
          <p:spPr>
            <a:xfrm>
              <a:off x="6531120" y="5290560"/>
              <a:ext cx="260964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Methodist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_s1050"/>
            <p:cNvSpPr/>
            <p:nvPr/>
          </p:nvSpPr>
          <p:spPr>
            <a:xfrm>
              <a:off x="6531120" y="5878800"/>
              <a:ext cx="2609640" cy="3906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entecostal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_s1051"/>
            <p:cNvSpPr/>
            <p:nvPr/>
          </p:nvSpPr>
          <p:spPr>
            <a:xfrm>
              <a:off x="6531120" y="2352600"/>
              <a:ext cx="2609640" cy="390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Presbyterian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_s1052"/>
            <p:cNvSpPr/>
            <p:nvPr/>
          </p:nvSpPr>
          <p:spPr>
            <a:xfrm>
              <a:off x="6531120" y="2939040"/>
              <a:ext cx="2609640" cy="3920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Reformed</a:t>
              </a:r>
              <a:endParaRPr b="0" lang="en-US" sz="1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3" name="Line 42"/>
          <p:cNvSpPr/>
          <p:nvPr/>
        </p:nvSpPr>
        <p:spPr>
          <a:xfrm>
            <a:off x="4419720" y="1066680"/>
            <a:ext cx="2057400" cy="763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6465240" y="95076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uther nails up 95 thes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16</a:t>
            </a:r>
            <a:r>
              <a:rPr b="0" lang="en-US" sz="1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Centur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 flipH="1">
            <a:off x="2514240" y="533520"/>
            <a:ext cx="304920" cy="1523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993240" y="20574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Great Schism (1054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29528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s chart can also be found on page 491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ligious Beliefs and Practices in the 1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914400"/>
          <a:ext cx="9144000" cy="5994360"/>
        </p:xfrm>
        <a:graphic>
          <a:graphicData uri="http://schemas.openxmlformats.org/drawingml/2006/table">
            <a:tbl>
              <a:tblPr/>
              <a:tblGrid>
                <a:gridCol w="1690560"/>
                <a:gridCol w="1997280"/>
                <a:gridCol w="1768320"/>
                <a:gridCol w="1843200"/>
                <a:gridCol w="1844640"/>
              </a:tblGrid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atholic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uthera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alvi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glicanism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2894d6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eadership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e is head of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nisters lead Congreg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uncil of elders govern each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glish Monarch is head of the Churc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79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alv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nd “Good Works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lo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determin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ith Alon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urch and Bible tradition are sources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 is sole source of revealed tru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orship Serv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ased on ritu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aching and ritu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ach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itual and preach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pretation of belief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dd435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iest and Church interpret Bible for follower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Bible for themselv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Bible for themselv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elievers interpret the Bible using tradition and reas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e3e331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gree/Disagre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nk globally . . . Not what we have but what should exis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st is a persons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sinful or wrong to challenge authority (government, church, paren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ety benefits when everyone does, thinks, acts the same w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igion is an opiate and distorts the true/meaningful lif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ro Discuss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 Most and least favorite cla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Favorite sport to watch or pl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. Favorite band or arti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. How much would you be willing to pay to get an A in your least favorite clas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. Would you pay $10? $100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. Would you pay to get an A in your favorite clas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Who would be more likely to pay more money to get an A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Who would be less likely to pay to get an A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. What can we infer about the Middle Ages knowing that many bought tickets to Heave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pe Francis Perspectiv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lbert Report: 7 January 2014, Fr. Jim Mart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:45 extended version (mute after girl scout cooki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:45 – interview starts (11:40 en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utenberg’s P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aper Boo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more copy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books, pamphl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es Litera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ss production (interne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onymous auth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ds not speech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2" name="Picture 5" descr="printing_press"/>
          <p:cNvPicPr/>
          <p:nvPr/>
        </p:nvPicPr>
        <p:blipFill>
          <a:blip r:embed="rId1"/>
          <a:stretch/>
        </p:blipFill>
        <p:spPr>
          <a:xfrm>
            <a:off x="5157720" y="2666880"/>
            <a:ext cx="398628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rigins of Reform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iticism for centuries but no vo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rthern Renaissance focused on religious humanism – religion as a social to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133720"/>
          <a:ext cx="9144000" cy="4724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133720"/>
                <a:gridCol w="2438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ligiou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 Humanism &amp; Secularism challenge relig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vic rulers challenge the Pope for pow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ople were jealous of the Pope’s wealt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rrupti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lgenc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mon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Printing Pres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riticism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eaeaea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b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e is viewed as a foreign lead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ger over paying Church tax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rties, orgies and wasteful spending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2" descr="defiderius_erasmus"/>
          <p:cNvPicPr/>
          <p:nvPr/>
        </p:nvPicPr>
        <p:blipFill>
          <a:blip r:embed="rId1"/>
          <a:stretch/>
        </p:blipFill>
        <p:spPr>
          <a:xfrm>
            <a:off x="2286000" y="2743200"/>
            <a:ext cx="251460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4" descr="martin_luther"/>
          <p:cNvPicPr/>
          <p:nvPr/>
        </p:nvPicPr>
        <p:blipFill>
          <a:blip r:embed="rId2"/>
          <a:stretch/>
        </p:blipFill>
        <p:spPr>
          <a:xfrm>
            <a:off x="4626000" y="2743200"/>
            <a:ext cx="220968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6" descr="davinci"/>
          <p:cNvPicPr/>
          <p:nvPr/>
        </p:nvPicPr>
        <p:blipFill>
          <a:blip r:embed="rId3"/>
          <a:stretch/>
        </p:blipFill>
        <p:spPr>
          <a:xfrm>
            <a:off x="6832440" y="2743200"/>
            <a:ext cx="2213280" cy="4038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thomas-more"/>
          <p:cNvPicPr/>
          <p:nvPr/>
        </p:nvPicPr>
        <p:blipFill>
          <a:blip r:embed="rId4"/>
          <a:stretch/>
        </p:blipFill>
        <p:spPr>
          <a:xfrm>
            <a:off x="-309600" y="2743200"/>
            <a:ext cx="267192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membe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an indulge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was Luther &amp; what did he belie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did the Church deal with people like Luth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factors made Luther successful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uth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 who opposes the selling of indulg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ils 95 Theses – criticisms of the Pope/indulg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ces, lies, power-hung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pe excommunicates Luther after he refuses to rec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ote German New Testa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-55440" y="4248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5" name="Picture 6" descr="martin-luther-theses"/>
          <p:cNvPicPr/>
          <p:nvPr/>
        </p:nvPicPr>
        <p:blipFill>
          <a:blip r:embed="rId1"/>
          <a:stretch/>
        </p:blipFill>
        <p:spPr>
          <a:xfrm>
            <a:off x="6267600" y="1886040"/>
            <a:ext cx="2876400" cy="497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artinLutherCranach2"/>
          <p:cNvPicPr/>
          <p:nvPr/>
        </p:nvPicPr>
        <p:blipFill>
          <a:blip r:embed="rId2"/>
          <a:stretch/>
        </p:blipFill>
        <p:spPr>
          <a:xfrm>
            <a:off x="152280" y="4572000"/>
            <a:ext cx="173700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ohn Calvi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ohn Calv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d predestin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creates a theocracy (religious government) in Geneva, Switze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hn Knox in Scotland spreads h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ings and Scottish monarchs be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or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~Presbyterian Chur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7" descr="john_calvin"/>
          <p:cNvPicPr/>
          <p:nvPr/>
        </p:nvPicPr>
        <p:blipFill>
          <a:blip r:embed="rId1"/>
          <a:stretch/>
        </p:blipFill>
        <p:spPr>
          <a:xfrm>
            <a:off x="6831000" y="4191120"/>
            <a:ext cx="231300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15:16Z</dcterms:created>
  <dc:creator>Robert Kuenzi</dc:creator>
  <dc:description/>
  <cp:keywords/>
  <dc:language>en-US</dc:language>
  <cp:lastModifiedBy>Kuenzi</cp:lastModifiedBy>
  <dcterms:modified xsi:type="dcterms:W3CDTF">2015-01-23T13:22:57Z</dcterms:modified>
  <cp:revision>43</cp:revision>
  <dc:subject/>
  <dc:title>Re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